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8C9-9BD0-4E77-BC1B-91245CC6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A34-6ECA-4534-9EB7-404C932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70F-199D-4EB3-866F-C826DED0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1C1-517B-4427-A202-92274073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C34-5B4D-4A5E-8C55-3260C69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F4E-92C1-4C6A-A9D2-FA976F9F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19B-7E63-47AF-9519-8AC7867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882-632E-45FA-9B04-5BF7728F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806-8FF2-4D65-A109-8D0D3F0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40E-FE52-4F60-953C-A902FE6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C46-2FE9-473A-987F-B3C508C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618-A535-463E-BA27-7455F65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438-D894-408B-9312-64B3DAD35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50;%B9%FA%B5%D8&#892;&amp;in=8478&amp;cl=2&amp;cm=1&amp;sc=0&amp;lm=-1&amp;pn=0&amp;rn=1&amp;di=1375841852&amp;ln=18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   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396360" cy="6858000"/>
            <a:chOff x="0" y="0"/>
            <a:chExt cx="9396360" cy="6858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9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948360" y="4076640"/>
              <a:ext cx="24386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8028000" y="4581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8172360" y="189000"/>
              <a:ext cx="122400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0" y="19890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0" y="2602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 rot="21399600">
              <a:off x="1906200" y="4424400"/>
              <a:ext cx="1150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 rot="5400000">
              <a:off x="3057840" y="4291560"/>
              <a:ext cx="76176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4067280" y="4249800"/>
              <a:ext cx="14446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 rot="7057800">
              <a:off x="5795280" y="4149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792000" y="1557360"/>
            <a:ext cx="835200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nit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sson 10 The U.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028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年级上册英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0" y="274320"/>
            <a:ext cx="44640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字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五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红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枫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星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352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Ch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The U.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The U.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692280"/>
            <a:ext cx="2305080" cy="172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1844640"/>
            <a:ext cx="1944720" cy="187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3213000"/>
            <a:ext cx="208764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32000" y="1484280"/>
            <a:ext cx="2087640" cy="2665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20000" y="3429000"/>
            <a:ext cx="2124000" cy="145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Ch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U.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U.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64360" y="1628640"/>
            <a:ext cx="1979640" cy="131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979640" cy="126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205092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16360" y="836640"/>
            <a:ext cx="3960720" cy="28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133720"/>
            <a:ext cx="30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213000"/>
            <a:ext cx="3240000" cy="230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708360" y="836280"/>
            <a:ext cx="3240000" cy="338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8000" y="0"/>
          <a:ext cx="9036000" cy="6958080"/>
        </p:xfrm>
        <a:graphic>
          <a:graphicData uri="http://schemas.openxmlformats.org/drawingml/2006/table">
            <a:tbl>
              <a:tblPr/>
              <a:tblGrid>
                <a:gridCol w="1439640"/>
                <a:gridCol w="1800360"/>
                <a:gridCol w="2160720"/>
                <a:gridCol w="2158920"/>
                <a:gridCol w="1476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l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ij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. It has five yellow st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ian’ an men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Palace Mus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nada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ttaw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 and white. It has a leaf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Niagara  F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Rocky Mount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U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ashington D.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 red  blue  and white. It  has  stars and  strip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White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Statue of  Lib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U.K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nd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  blue 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. It’s the same colour as the flag of the U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552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64000" y="0"/>
            <a:ext cx="5580000" cy="3718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75300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e U.K has a king or a que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is is a queen. Kings and 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in palac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is is Buckingham Palace in Londo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伊丽莎白二世"/>
          <p:cNvPicPr/>
          <p:nvPr/>
        </p:nvPicPr>
        <p:blipFill>
          <a:blip r:embed="rId2"/>
          <a:stretch/>
        </p:blipFill>
        <p:spPr>
          <a:xfrm>
            <a:off x="0" y="0"/>
            <a:ext cx="356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906 0.01692 L -0.06979 0.01182 E">
                                      <p:cBhvr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白金汉宫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4000" y="2473560"/>
            <a:ext cx="925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金汉宫位于圣詹姆士公园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t. James’ Park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西端，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白金汉公爵兴建而得名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由乔治三世购得，曾一度做过帝国纪念堂、美术陈列馆、办公厅和藏金库，直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改建成王宫建筑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3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维多利亚女王继位起正式成为王宫，现仍是伊丽沙白女王的王室住地。女王召见首相、大臣，接待和宴请外国客人及其他重要外交活动都在此举行。白金汉宫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用石料装饰了外墙面，最近的一次外墙清洗使王宫重放异彩，但给人们印象最深的还是其内部。王宫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厅室，收藏有许多绘画和精美的红木家具，艺术馆大厅内专门陈列英国历代王朝帝后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幅画像和半身雕像，营造出一种十八、十九世纪英格兰的氛围。宫前广场上竖有胜利女神金像和维多利亚女王坐像，此外还辟有一座占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英亩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顷）的御花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写作练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907920"/>
          <a:ext cx="8964720" cy="5977080"/>
        </p:xfrm>
        <a:graphic>
          <a:graphicData uri="http://schemas.openxmlformats.org/drawingml/2006/table">
            <a:tbl>
              <a:tblPr/>
              <a:tblGrid>
                <a:gridCol w="576360"/>
                <a:gridCol w="2303640"/>
                <a:gridCol w="2089080"/>
                <a:gridCol w="1944720"/>
                <a:gridCol w="2050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古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美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hington D.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 txBox="1"/>
          <p:nvPr/>
        </p:nvSpPr>
        <p:spPr>
          <a:xfrm>
            <a:off x="5105520" y="-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486900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219640" y="2997360"/>
            <a:ext cx="1873440" cy="1726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59280" y="4741920"/>
            <a:ext cx="2089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060640"/>
            <a:ext cx="532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ank you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200" y="18864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知识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.K.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及关于英国的相关常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能力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读、写、说出并且听懂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.K.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能用英语向他人介绍有关英国的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情感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激发学生 对英语的持久兴趣，培养运用语言进行交际的能力，了解中西文化的差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重点、难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能用英语向其他人简单介绍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英国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这个国家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map of the U.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254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423864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is is a map of the United Kingd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London is the capital city of the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U.K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 U.K is west and a little north of Chi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y speak English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13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Here ‘s the U.K’s flag. It’s red, white and blu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It’s the same colour as the flag of the U.S .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46080"/>
            <a:ext cx="69850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1905120"/>
            <a:ext cx="7391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248520" cy="166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16360" y="4046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课 堂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28640"/>
            <a:ext cx="896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country’s  flag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020000" y="3068640"/>
            <a:ext cx="1584360" cy="98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508720" y="1700280"/>
            <a:ext cx="1655640" cy="1112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356000" y="5516640"/>
            <a:ext cx="223200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1905120"/>
            <a:ext cx="7391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24852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16360" y="4046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课 堂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28640"/>
            <a:ext cx="89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What country is th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What do they spea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ere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hat’s the capital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flag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060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187200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798560" cy="144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076720" y="5346720"/>
            <a:ext cx="130032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164360" y="1268280"/>
            <a:ext cx="1643040" cy="158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1:31:21Z</dcterms:created>
  <dc:creator/>
  <dc:description/>
  <dc:language>en-US</dc:language>
  <cp:lastModifiedBy>China</cp:lastModifiedBy>
  <dcterms:modified xsi:type="dcterms:W3CDTF">2018-08-17T04:30:24Z</dcterms:modified>
  <cp:revision>1</cp:revision>
  <dc:subject/>
  <dc:title>Unit 1    My Fami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6000000000001024120</vt:lpwstr>
  </property>
</Properties>
</file>